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287-08CD-4C19-9DA0-5EEAAB92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400-4F4E-49B7-B5DC-14C12520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E20-4DC0-4C2D-9CD4-9ADEFD67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2B0-62DA-4FB4-B446-C9760C3A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9B8E-91D6-4F24-9140-2213F353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779-A0C5-4D17-ABBF-039194F4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C36-4857-4C76-BE75-26E7EF73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691-CDEB-4802-B01F-4EBA217C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B33-87F6-4F4D-BB7D-B616328E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0B6-5560-4311-9847-EE7ECC25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83F-129A-486C-B9F1-045BB841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B8F-FAB4-47A9-81E3-0C380B2C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4A6C-6DB7-406A-ADC8-752D83DB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16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1.wmf"/><Relationship Id="rId3" Type="http://schemas.openxmlformats.org/officeDocument/2006/relationships/image" Target="../media/image4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4.wmf"/><Relationship Id="rId3" Type="http://schemas.openxmlformats.org/officeDocument/2006/relationships/image" Target="../media/image1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4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4.wmf"/><Relationship Id="rId3" Type="http://schemas.openxmlformats.org/officeDocument/2006/relationships/image" Target="../media/image16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8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59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74674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¿De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dónde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732480" cy="4343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Méxi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071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29080" cy="40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0" y="4419720"/>
            <a:ext cx="396252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s Uni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33256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837160" cy="3967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Españ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1538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551400" cy="359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10080" y="838080"/>
            <a:ext cx="1614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732480" cy="3824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Boliv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1828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16239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5323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05520" y="457200"/>
            <a:ext cx="1114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655800" cy="3656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952880" y="4038480"/>
            <a:ext cx="381024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olomb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15541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214800" cy="249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86200" y="3657600"/>
            <a:ext cx="1420920" cy="198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Españ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1743120" cy="1762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477120" y="3733920"/>
            <a:ext cx="1803240" cy="207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327672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Boliv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327672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91320" y="762120"/>
            <a:ext cx="2361960" cy="233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1701720" cy="198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733920" y="373392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172200" y="3505320"/>
            <a:ext cx="21700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214800" cy="2498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2837160" cy="3967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Españ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93636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1743120" cy="1762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657600" y="3809880"/>
            <a:ext cx="17478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Argent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20040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14400" y="3809880"/>
            <a:ext cx="1743120" cy="1762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57600" y="3809880"/>
            <a:ext cx="1747800" cy="194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248520" y="762120"/>
            <a:ext cx="1473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388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los Estados Uni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200400"/>
            <a:ext cx="304776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1803600" cy="207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17020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105520" y="1066680"/>
            <a:ext cx="312408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Mé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352680"/>
            <a:ext cx="304776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0208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14400" y="3657600"/>
            <a:ext cx="1747800" cy="194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1420920" cy="198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715000" y="990720"/>
            <a:ext cx="2071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Colom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35268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0208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324480" y="914400"/>
            <a:ext cx="15541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53352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ién es de Per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5867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3200400"/>
            <a:ext cx="3048120" cy="274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400800" y="36576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581280" y="3886200"/>
            <a:ext cx="1649520" cy="1690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248520" y="609480"/>
            <a:ext cx="1751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410080" y="1143000"/>
            <a:ext cx="3040200" cy="4876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551400" cy="3591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120" y="5335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Españ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e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52880" cy="3373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Mé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73248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í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Méxi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27400" cy="3182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Per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3732480" cy="3824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Boliv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230800" cy="2779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Mé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3529080" cy="4051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572000" y="4419720"/>
            <a:ext cx="396252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es de 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s Uni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10080" y="1143000"/>
            <a:ext cx="3040200" cy="487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3551400" cy="359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101680" cy="6161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3532320" cy="3921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í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266920" cy="2665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12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los Estados Uni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3655800" cy="3656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952880" y="4038480"/>
            <a:ext cx="381024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Colomb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248520" y="609480"/>
            <a:ext cx="2436840" cy="297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Es de Per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í, 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732480" cy="4343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Méxi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071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655800" cy="3656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952880" y="4038480"/>
            <a:ext cx="381024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olomb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15541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837160" cy="396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Españ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1538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16239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732480" cy="3824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Boliv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1828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29080" cy="4051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572000" y="4419720"/>
            <a:ext cx="396252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s Uni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33256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532320" cy="3921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05520" y="457200"/>
            <a:ext cx="1114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52880" cy="337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373248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Méxic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551400" cy="3591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gent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410080" y="838080"/>
            <a:ext cx="1614600" cy="259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76520" y="1676520"/>
            <a:ext cx="5715000" cy="4495680"/>
          </a:xfrm>
          <a:prstGeom prst="ellipse">
            <a:avLst/>
          </a:prstGeom>
          <a:gradFill rotWithShape="0">
            <a:gsLst>
              <a:gs pos="0">
                <a:srgbClr val="fffea0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27400" cy="3182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3732480" cy="382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Boliv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5230800" cy="2779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3529080" cy="4051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0" y="4419720"/>
            <a:ext cx="396252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dos Unid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101680" cy="6161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3532320" cy="392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266920" cy="2665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3655800" cy="365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52880" y="4038480"/>
            <a:ext cx="381024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Colomb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248520" y="609480"/>
            <a:ext cx="2436840" cy="297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533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De dónde 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2962440" cy="3581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52880" y="4038480"/>
            <a:ext cx="3429000" cy="152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de Per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0:15:49Z</dcterms:created>
  <dc:creator>Paul Widergren</dc:creator>
  <dc:description/>
  <dc:language>en-US</dc:language>
  <cp:lastModifiedBy>Paul Widergren</cp:lastModifiedBy>
  <dcterms:modified xsi:type="dcterms:W3CDTF">2005-10-09T16:49:31Z</dcterms:modified>
  <cp:revision>4</cp:revision>
  <dc:subject/>
  <dc:title>¿De dónde es?</dc:title>
</cp:coreProperties>
</file>